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20.jpeg" ContentType="image/jpeg"/>
  <Override PartName="/ppt/media/image17.jpeg" ContentType="image/jpeg"/>
  <Override PartName="/ppt/media/image4.jpeg" ContentType="image/jpeg"/>
  <Override PartName="/ppt/media/image15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19.jpeg" ContentType="image/jpeg"/>
  <Override PartName="/ppt/media/image63.jpeg" ContentType="image/jpeg"/>
  <Override PartName="/ppt/media/image90.jpeg" ContentType="image/jpeg"/>
  <Override PartName="/ppt/media/image6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6.jpeg" ContentType="image/jpeg"/>
  <Override PartName="/ppt/media/image75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65.jpeg" ContentType="image/jpeg"/>
  <Override PartName="/ppt/media/image14.jpeg" ContentType="image/jpeg"/>
  <Override PartName="/ppt/media/image41.jpeg" ContentType="image/jpeg"/>
  <Override PartName="/ppt/media/image81.jpeg" ContentType="image/jpeg"/>
  <Override PartName="/ppt/media/image22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84.jpeg" ContentType="image/jpeg"/>
  <Override PartName="/ppt/media/image25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8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10856-DA63-4ED8-BB0D-651DA4156A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7F871-8F91-427D-922A-6D5620BB50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F6263-F1F3-499D-82F7-8E5AE7C198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67A9F-DBE9-44A9-AE48-10D1F77730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B955F-5EA1-46CA-B94F-2E944BAC9B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2C2EA-D669-4BDD-A1C1-2FA07C8583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E9617-E287-44F8-AD83-279A5ED64A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027A1-FCAC-4369-B94A-E8088666D7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C52D5-9AF1-4666-98D4-468B83F685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038D3-187C-4C4B-AAEF-EEC5979D48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1A3C2-817F-463A-A6E5-FB7EC97F1E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A8B27-9404-4967-AF66-7B6C6CBA76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BA685-552C-46F9-8C9C-1862AE1E3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455840" indent="-541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019240" indent="-647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550960" indent="-7221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550960" indent="-7221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550960" indent="-7221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image" Target="../media/image52.jpeg"/><Relationship Id="rId7" Type="http://schemas.openxmlformats.org/officeDocument/2006/relationships/image" Target="../media/image53.jpeg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image" Target="../media/image73.jpeg"/><Relationship Id="rId6" Type="http://schemas.openxmlformats.org/officeDocument/2006/relationships/image" Target="../media/image74.jpeg"/><Relationship Id="rId7" Type="http://schemas.openxmlformats.org/officeDocument/2006/relationships/image" Target="../media/image75.jpeg"/><Relationship Id="rId8" Type="http://schemas.openxmlformats.org/officeDocument/2006/relationships/image" Target="../media/image76.jpeg"/><Relationship Id="rId9" Type="http://schemas.openxmlformats.org/officeDocument/2006/relationships/image" Target="../media/image77.jpeg"/><Relationship Id="rId10" Type="http://schemas.openxmlformats.org/officeDocument/2006/relationships/image" Target="../media/image78.jpeg"/><Relationship Id="rId11" Type="http://schemas.openxmlformats.org/officeDocument/2006/relationships/image" Target="../media/image79.jpeg"/><Relationship Id="rId12" Type="http://schemas.openxmlformats.org/officeDocument/2006/relationships/image" Target="../media/image80.jpeg"/><Relationship Id="rId13" Type="http://schemas.openxmlformats.org/officeDocument/2006/relationships/image" Target="../media/image81.jpeg"/><Relationship Id="rId14" Type="http://schemas.openxmlformats.org/officeDocument/2006/relationships/image" Target="../media/image82.jpeg"/><Relationship Id="rId1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image" Target="../media/image84.jpeg"/><Relationship Id="rId3" Type="http://schemas.openxmlformats.org/officeDocument/2006/relationships/image" Target="../media/image85.jpeg"/><Relationship Id="rId4" Type="http://schemas.openxmlformats.org/officeDocument/2006/relationships/image" Target="../media/image86.jpe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image" Target="../media/image88.jpeg"/><Relationship Id="rId3" Type="http://schemas.openxmlformats.org/officeDocument/2006/relationships/image" Target="../media/image89.jpe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24040" y="260280"/>
            <a:ext cx="6688080" cy="11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5800" spc="-1" strike="noStrike">
                <a:solidFill>
                  <a:srgbClr val="e759f4"/>
                </a:solidFill>
                <a:latin typeface="Dyslexie Regular"/>
                <a:ea typeface="Dyslexie Regular"/>
              </a:rPr>
              <a:t>Romeo&amp;Juliet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0000" y="2552760"/>
            <a:ext cx="4535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500" spc="-1" strike="noStrike">
                <a:solidFill>
                  <a:srgbClr val="d23acf"/>
                </a:solidFill>
                <a:latin typeface="Dyslexie Regular"/>
                <a:ea typeface="Dyslexie Regular"/>
              </a:rPr>
              <a:t>- </a:t>
            </a:r>
            <a:r>
              <a:rPr b="0" lang="en-US" sz="2100" spc="-1" strike="noStrike">
                <a:solidFill>
                  <a:srgbClr val="d23acf"/>
                </a:solidFill>
                <a:latin typeface="Dyslexie Regular"/>
                <a:ea typeface="Dyslexie Regular"/>
              </a:rPr>
              <a:t>What I already know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100" spc="-1" strike="noStrike">
                <a:solidFill>
                  <a:srgbClr val="d23acf"/>
                </a:solidFill>
                <a:latin typeface="Dyslexie Regular"/>
                <a:ea typeface="Dyslexie Regular"/>
              </a:rPr>
              <a:t>- What I want to know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100" spc="-1" strike="noStrike">
                <a:solidFill>
                  <a:srgbClr val="d23acf"/>
                </a:solidFill>
                <a:latin typeface="Dyslexie Regular"/>
                <a:ea typeface="Dyslexie Regular"/>
              </a:rPr>
              <a:t>- What I lear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asted-image.tif" descr=""/>
          <p:cNvPicPr/>
          <p:nvPr/>
        </p:nvPicPr>
        <p:blipFill>
          <a:blip r:embed="rId1"/>
          <a:stretch/>
        </p:blipFill>
        <p:spPr>
          <a:xfrm>
            <a:off x="190440" y="4289400"/>
            <a:ext cx="1817640" cy="244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23600" y="6095880"/>
            <a:ext cx="2076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200" spc="-1" strike="noStrike">
                <a:solidFill>
                  <a:srgbClr val="5e3ecf"/>
                </a:solidFill>
                <a:latin typeface="Dyslexie Regular"/>
                <a:ea typeface="Dyslexie Regular"/>
              </a:rPr>
              <a:t>Miss Angela and her dwarf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73040" y="324000"/>
            <a:ext cx="4283280" cy="14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en-US" sz="3200" spc="-1" strike="noStrike">
                <a:solidFill>
                  <a:srgbClr val="e759f4"/>
                </a:solidFill>
                <a:latin typeface="Dyslexie Regular"/>
                <a:ea typeface="Dyslexie Regular"/>
              </a:rPr>
              <a:t>GIRLS DO IT BETT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90320" y="1875960"/>
            <a:ext cx="847404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Old Capulet has a beautiful daughter: Juli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She is thirte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She is very smart and she spends a lot of time with her Nurse, who teaches her a lot about the wor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Juliet knows what she wa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Especially she knows she doesn’t want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marry Count Par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The night of the party her parents want her to meet Pari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She is not happy about 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asted-image.tif" descr=""/>
          <p:cNvPicPr/>
          <p:nvPr/>
        </p:nvPicPr>
        <p:blipFill>
          <a:blip r:embed="rId1"/>
          <a:stretch/>
        </p:blipFill>
        <p:spPr>
          <a:xfrm>
            <a:off x="5489640" y="84240"/>
            <a:ext cx="3043080" cy="1931760"/>
          </a:xfrm>
          <a:prstGeom prst="rect">
            <a:avLst/>
          </a:prstGeom>
          <a:ln w="0">
            <a:noFill/>
          </a:ln>
        </p:spPr>
      </p:pic>
      <p:pic>
        <p:nvPicPr>
          <p:cNvPr id="75" name="pasted-image.tif" descr=""/>
          <p:cNvPicPr/>
          <p:nvPr/>
        </p:nvPicPr>
        <p:blipFill>
          <a:blip r:embed="rId2"/>
          <a:stretch/>
        </p:blipFill>
        <p:spPr>
          <a:xfrm>
            <a:off x="4514760" y="5813280"/>
            <a:ext cx="677880" cy="878040"/>
          </a:xfrm>
          <a:prstGeom prst="rect">
            <a:avLst/>
          </a:prstGeom>
          <a:ln w="0">
            <a:noFill/>
          </a:ln>
        </p:spPr>
      </p:pic>
      <p:pic>
        <p:nvPicPr>
          <p:cNvPr id="76" name="pasted-image.tif" descr=""/>
          <p:cNvPicPr/>
          <p:nvPr/>
        </p:nvPicPr>
        <p:blipFill>
          <a:blip r:embed="rId3"/>
          <a:stretch/>
        </p:blipFill>
        <p:spPr>
          <a:xfrm>
            <a:off x="7151760" y="4049640"/>
            <a:ext cx="1554120" cy="116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432240" y="-11160"/>
            <a:ext cx="4846680" cy="20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r>
              <a:rPr b="0" lang="en-US" sz="3000" spc="-1" strike="noStrike">
                <a:solidFill>
                  <a:srgbClr val="e759f4"/>
                </a:solidFill>
                <a:latin typeface="Dyslexie Regular"/>
                <a:ea typeface="Dyslexie Regular"/>
              </a:rPr>
              <a:t>WARNING! Montagues around.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223920" y="2168640"/>
            <a:ext cx="528480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Juliet’s cousin, TYBALT, warns Old Capulet: Some Montagues are at the party without any invitation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Capulet says Tybalt to be calm and enjoy the part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asted-image.tif" descr=""/>
          <p:cNvPicPr/>
          <p:nvPr/>
        </p:nvPicPr>
        <p:blipFill>
          <a:blip r:embed="rId1"/>
          <a:stretch/>
        </p:blipFill>
        <p:spPr>
          <a:xfrm>
            <a:off x="349200" y="88920"/>
            <a:ext cx="2762280" cy="1832040"/>
          </a:xfrm>
          <a:prstGeom prst="rect">
            <a:avLst/>
          </a:prstGeom>
          <a:ln w="0">
            <a:noFill/>
          </a:ln>
        </p:spPr>
      </p:pic>
      <p:pic>
        <p:nvPicPr>
          <p:cNvPr id="80" name="pasted-image.tif" descr=""/>
          <p:cNvPicPr/>
          <p:nvPr/>
        </p:nvPicPr>
        <p:blipFill>
          <a:blip r:embed="rId2"/>
          <a:stretch/>
        </p:blipFill>
        <p:spPr>
          <a:xfrm>
            <a:off x="5838840" y="339876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383840" y="85680"/>
            <a:ext cx="676620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en-US" sz="2800" spc="-1" strike="noStrike">
                <a:solidFill>
                  <a:srgbClr val="e759f4"/>
                </a:solidFill>
                <a:latin typeface="Dyslexie Regular"/>
                <a:ea typeface="Dyslexie Regular"/>
              </a:rPr>
              <a:t>O Romeo, Romeo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78040" y="703440"/>
            <a:ext cx="3490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At the party, Romeo and Juliet meet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32040" y="1895400"/>
            <a:ext cx="25797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They fall in love at once (soo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53000" y="2455920"/>
            <a:ext cx="328608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Romeo is sad that Juliet belongs to his enemies’ family. But he wants to run the risk. He loves h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98600" y="4203720"/>
            <a:ext cx="40705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Juliet, on her balcony, declares her love for Romeo. He listens under her balcony and, after Juliet’s suggestion, they decide to mar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asted-image.tif" descr=""/>
          <p:cNvPicPr/>
          <p:nvPr/>
        </p:nvPicPr>
        <p:blipFill>
          <a:blip r:embed="rId1"/>
          <a:stretch/>
        </p:blipFill>
        <p:spPr>
          <a:xfrm>
            <a:off x="5310360" y="709560"/>
            <a:ext cx="3738240" cy="1354320"/>
          </a:xfrm>
          <a:prstGeom prst="rect">
            <a:avLst/>
          </a:prstGeom>
          <a:ln w="0">
            <a:noFill/>
          </a:ln>
        </p:spPr>
      </p:pic>
      <p:pic>
        <p:nvPicPr>
          <p:cNvPr id="87" name="pasted-image.tif" descr=""/>
          <p:cNvPicPr/>
          <p:nvPr/>
        </p:nvPicPr>
        <p:blipFill>
          <a:blip r:embed="rId2"/>
          <a:stretch/>
        </p:blipFill>
        <p:spPr>
          <a:xfrm>
            <a:off x="147600" y="1889280"/>
            <a:ext cx="1731960" cy="1079280"/>
          </a:xfrm>
          <a:prstGeom prst="rect">
            <a:avLst/>
          </a:prstGeom>
          <a:ln w="0">
            <a:noFill/>
          </a:ln>
        </p:spPr>
      </p:pic>
      <p:pic>
        <p:nvPicPr>
          <p:cNvPr id="88" name="pasted-image.tif" descr=""/>
          <p:cNvPicPr/>
          <p:nvPr/>
        </p:nvPicPr>
        <p:blipFill>
          <a:blip r:embed="rId3"/>
          <a:stretch/>
        </p:blipFill>
        <p:spPr>
          <a:xfrm>
            <a:off x="7120080" y="2455920"/>
            <a:ext cx="1731960" cy="1944720"/>
          </a:xfrm>
          <a:prstGeom prst="rect">
            <a:avLst/>
          </a:prstGeom>
          <a:ln w="0">
            <a:noFill/>
          </a:ln>
        </p:spPr>
      </p:pic>
      <p:pic>
        <p:nvPicPr>
          <p:cNvPr id="89" name="pasted-image.tif" descr=""/>
          <p:cNvPicPr/>
          <p:nvPr/>
        </p:nvPicPr>
        <p:blipFill>
          <a:blip r:embed="rId4"/>
          <a:stretch/>
        </p:blipFill>
        <p:spPr>
          <a:xfrm>
            <a:off x="66600" y="3836880"/>
            <a:ext cx="2163960" cy="2938680"/>
          </a:xfrm>
          <a:prstGeom prst="rect">
            <a:avLst/>
          </a:prstGeom>
          <a:ln w="0">
            <a:noFill/>
          </a:ln>
        </p:spPr>
      </p:pic>
      <p:pic>
        <p:nvPicPr>
          <p:cNvPr id="90" name="pasted-image.tif" descr=""/>
          <p:cNvPicPr/>
          <p:nvPr/>
        </p:nvPicPr>
        <p:blipFill>
          <a:blip r:embed="rId5"/>
          <a:stretch/>
        </p:blipFill>
        <p:spPr>
          <a:xfrm>
            <a:off x="6488280" y="4792680"/>
            <a:ext cx="1382400" cy="17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186920" y="90000"/>
            <a:ext cx="676764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en-US" sz="2800" spc="-1" strike="noStrike">
                <a:solidFill>
                  <a:srgbClr val="e759f4"/>
                </a:solidFill>
                <a:latin typeface="Dyslexie Regular"/>
                <a:ea typeface="Dyslexie Regular"/>
              </a:rPr>
              <a:t>A SECRET MARRI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93720" y="946080"/>
            <a:ext cx="595332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The next day, Romeo and Juliet go to Friar Lawrence, to get married. The Nurse goes with them, to be the witnes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92680" y="2825640"/>
            <a:ext cx="5057640" cy="20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Friar Lawrence is not sure about a sudden marriage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he agrees        to marry them because he hopes to bring peace to the famili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asted-image.tif" descr=""/>
          <p:cNvPicPr/>
          <p:nvPr/>
        </p:nvPicPr>
        <p:blipFill>
          <a:blip r:embed="rId1"/>
          <a:stretch/>
        </p:blipFill>
        <p:spPr>
          <a:xfrm>
            <a:off x="7520040" y="-96840"/>
            <a:ext cx="1731960" cy="1730520"/>
          </a:xfrm>
          <a:prstGeom prst="rect">
            <a:avLst/>
          </a:prstGeom>
          <a:ln w="0">
            <a:noFill/>
          </a:ln>
        </p:spPr>
      </p:pic>
      <p:pic>
        <p:nvPicPr>
          <p:cNvPr id="95" name="pasted-image.tif" descr=""/>
          <p:cNvPicPr/>
          <p:nvPr/>
        </p:nvPicPr>
        <p:blipFill>
          <a:blip r:embed="rId2"/>
          <a:stretch/>
        </p:blipFill>
        <p:spPr>
          <a:xfrm>
            <a:off x="208080" y="4451400"/>
            <a:ext cx="3705120" cy="15620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226120" y="3689280"/>
            <a:ext cx="239076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500" spc="-1" strike="noStrike">
                <a:solidFill>
                  <a:srgbClr val="e759f4"/>
                </a:solidFill>
                <a:latin typeface="Dyslexie Regular"/>
                <a:ea typeface="Dyslexie Regular"/>
              </a:rPr>
              <a:t>bu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asted-image.tif" descr=""/>
          <p:cNvPicPr/>
          <p:nvPr/>
        </p:nvPicPr>
        <p:blipFill>
          <a:blip r:embed="rId3"/>
          <a:stretch/>
        </p:blipFill>
        <p:spPr>
          <a:xfrm>
            <a:off x="1785960" y="2560680"/>
            <a:ext cx="1541520" cy="1731960"/>
          </a:xfrm>
          <a:prstGeom prst="rect">
            <a:avLst/>
          </a:prstGeom>
          <a:ln w="0">
            <a:noFill/>
          </a:ln>
        </p:spPr>
      </p:pic>
      <p:pic>
        <p:nvPicPr>
          <p:cNvPr id="98" name="pasted-image.tif" descr=""/>
          <p:cNvPicPr/>
          <p:nvPr/>
        </p:nvPicPr>
        <p:blipFill>
          <a:blip r:embed="rId4"/>
          <a:stretch/>
        </p:blipFill>
        <p:spPr>
          <a:xfrm>
            <a:off x="5635800" y="4562640"/>
            <a:ext cx="753840" cy="671400"/>
          </a:xfrm>
          <a:prstGeom prst="rect">
            <a:avLst/>
          </a:prstGeom>
          <a:ln w="0">
            <a:noFill/>
          </a:ln>
        </p:spPr>
      </p:pic>
      <p:pic>
        <p:nvPicPr>
          <p:cNvPr id="99" name="pasted-image.tif" descr=""/>
          <p:cNvPicPr/>
          <p:nvPr/>
        </p:nvPicPr>
        <p:blipFill>
          <a:blip r:embed="rId5"/>
          <a:stretch/>
        </p:blipFill>
        <p:spPr>
          <a:xfrm>
            <a:off x="-60480" y="743040"/>
            <a:ext cx="1730520" cy="173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asted-image.tif" descr=""/>
          <p:cNvPicPr/>
          <p:nvPr/>
        </p:nvPicPr>
        <p:blipFill>
          <a:blip r:embed="rId1"/>
          <a:stretch/>
        </p:blipFill>
        <p:spPr>
          <a:xfrm>
            <a:off x="743040" y="1314360"/>
            <a:ext cx="7199280" cy="47912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958320" y="395280"/>
            <a:ext cx="676764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en-US" sz="2800" spc="-1" strike="noStrike">
                <a:solidFill>
                  <a:srgbClr val="e759f4"/>
                </a:solidFill>
                <a:latin typeface="Dyslexie Regular"/>
                <a:ea typeface="Dyslexie Regular"/>
              </a:rPr>
              <a:t>Tragedy is coming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05920" y="146160"/>
            <a:ext cx="87296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r>
              <a:rPr b="0" lang="en-US" sz="3000" spc="-1" strike="noStrike">
                <a:solidFill>
                  <a:srgbClr val="e759f4"/>
                </a:solidFill>
                <a:latin typeface="Dyslexie Regular"/>
                <a:ea typeface="Dyslexie Regular"/>
              </a:rPr>
              <a:t>A CURSE! A curse upon your families!!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2360" y="1391760"/>
            <a:ext cx="4402080" cy="17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42876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On his way back from the wedding, Romeo meets Tyba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42876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Tybalt wants to fight but Romeo refu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asted-image.tif" descr=""/>
          <p:cNvPicPr/>
          <p:nvPr/>
        </p:nvPicPr>
        <p:blipFill>
          <a:blip r:embed="rId1"/>
          <a:stretch/>
        </p:blipFill>
        <p:spPr>
          <a:xfrm>
            <a:off x="4927680" y="1936800"/>
            <a:ext cx="3606840" cy="22478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941400" y="3360600"/>
            <a:ext cx="3819600" cy="22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Mercutio fights against Tyba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Romeo tries to stop the fight and accidentally gets in the wa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29160" y="4935600"/>
            <a:ext cx="4402080" cy="17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92040"/>
                <a:tab algn="l" pos="784080"/>
                <a:tab algn="l" pos="1176480"/>
                <a:tab algn="l" pos="1568520"/>
                <a:tab algn="l" pos="1960560"/>
                <a:tab algn="l" pos="2352600"/>
                <a:tab algn="l" pos="2744640"/>
                <a:tab algn="l" pos="3137040"/>
                <a:tab algn="l" pos="3529080"/>
                <a:tab algn="l" pos="3921120"/>
                <a:tab algn="l" pos="4313160"/>
                <a:tab algn="l" pos="4705200"/>
                <a:tab algn="l" pos="5097600"/>
                <a:tab algn="l" pos="5489640"/>
                <a:tab algn="l" pos="5881680"/>
                <a:tab algn="l" pos="6273720"/>
                <a:tab algn="l" pos="6665760"/>
                <a:tab algn="l" pos="7058160"/>
                <a:tab algn="l" pos="7450200"/>
                <a:tab algn="l" pos="78422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Tybalt stabs Mercutio to death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92040"/>
                <a:tab algn="l" pos="784080"/>
                <a:tab algn="l" pos="1176480"/>
                <a:tab algn="l" pos="1568520"/>
                <a:tab algn="l" pos="1960560"/>
                <a:tab algn="l" pos="2352600"/>
                <a:tab algn="l" pos="2744640"/>
                <a:tab algn="l" pos="3137040"/>
                <a:tab algn="l" pos="3529080"/>
                <a:tab algn="l" pos="3921120"/>
                <a:tab algn="l" pos="4313160"/>
                <a:tab algn="l" pos="4705200"/>
                <a:tab algn="l" pos="5097600"/>
                <a:tab algn="l" pos="5489640"/>
                <a:tab algn="l" pos="5881680"/>
                <a:tab algn="l" pos="6273720"/>
                <a:tab algn="l" pos="6665760"/>
                <a:tab algn="l" pos="7058160"/>
                <a:tab algn="l" pos="7450200"/>
                <a:tab algn="l" pos="78422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Mercutio screams against the two familie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72800" y="122040"/>
            <a:ext cx="4326120" cy="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3400" spc="-1" strike="noStrike">
                <a:solidFill>
                  <a:srgbClr val="e759f4"/>
                </a:solidFill>
                <a:latin typeface="Dyslexie Regular"/>
                <a:ea typeface="Dyslexie Regular"/>
              </a:rPr>
              <a:t>BANISHED!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2360" y="1598760"/>
            <a:ext cx="6631200" cy="28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Romeo is shocked         and angry           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so he runs after Tybalt and kills hi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08400" y="4643280"/>
            <a:ext cx="5451480" cy="17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Prince Escalus banishes Rome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Benvolio invites Romeo to leave to Mantua, so that the Prince of Verona can’t sentence him to dea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asted-image.tif" descr=""/>
          <p:cNvPicPr/>
          <p:nvPr/>
        </p:nvPicPr>
        <p:blipFill>
          <a:blip r:embed="rId1"/>
          <a:stretch/>
        </p:blipFill>
        <p:spPr>
          <a:xfrm>
            <a:off x="7207200" y="114480"/>
            <a:ext cx="1746360" cy="1746000"/>
          </a:xfrm>
          <a:prstGeom prst="rect">
            <a:avLst/>
          </a:prstGeom>
          <a:ln w="0">
            <a:noFill/>
          </a:ln>
        </p:spPr>
      </p:pic>
      <p:pic>
        <p:nvPicPr>
          <p:cNvPr id="111" name="pasted-image.tif" descr=""/>
          <p:cNvPicPr/>
          <p:nvPr/>
        </p:nvPicPr>
        <p:blipFill>
          <a:blip r:embed="rId2"/>
          <a:stretch/>
        </p:blipFill>
        <p:spPr>
          <a:xfrm>
            <a:off x="2824200" y="1406520"/>
            <a:ext cx="876240" cy="920880"/>
          </a:xfrm>
          <a:prstGeom prst="rect">
            <a:avLst/>
          </a:prstGeom>
          <a:ln w="0">
            <a:noFill/>
          </a:ln>
        </p:spPr>
      </p:pic>
      <p:pic>
        <p:nvPicPr>
          <p:cNvPr id="112" name="pasted-image.tif" descr=""/>
          <p:cNvPicPr/>
          <p:nvPr/>
        </p:nvPicPr>
        <p:blipFill>
          <a:blip r:embed="rId3"/>
          <a:stretch/>
        </p:blipFill>
        <p:spPr>
          <a:xfrm>
            <a:off x="5216400" y="1400040"/>
            <a:ext cx="1297080" cy="920880"/>
          </a:xfrm>
          <a:prstGeom prst="rect">
            <a:avLst/>
          </a:prstGeom>
          <a:ln w="0">
            <a:noFill/>
          </a:ln>
        </p:spPr>
      </p:pic>
      <p:pic>
        <p:nvPicPr>
          <p:cNvPr id="113" name="pasted-image.tif" descr=""/>
          <p:cNvPicPr/>
          <p:nvPr/>
        </p:nvPicPr>
        <p:blipFill>
          <a:blip r:embed="rId4"/>
          <a:stretch/>
        </p:blipFill>
        <p:spPr>
          <a:xfrm>
            <a:off x="-93600" y="4332240"/>
            <a:ext cx="2962080" cy="19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33000" y="-54000"/>
            <a:ext cx="667548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4900" spc="-1" strike="noStrike">
                <a:solidFill>
                  <a:srgbClr val="e759f4"/>
                </a:solidFill>
                <a:latin typeface="Dyslexie Regular"/>
                <a:ea typeface="Dyslexie Regular"/>
              </a:rPr>
              <a:t>Hello, sadness!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08320" y="1120680"/>
            <a:ext cx="3490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Juliet is sad for her cousin’s death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2120" y="2433600"/>
            <a:ext cx="349092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She is also sad because Romeo has to leave to Mantu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asted-image.tif" descr=""/>
          <p:cNvPicPr/>
          <p:nvPr/>
        </p:nvPicPr>
        <p:blipFill>
          <a:blip r:embed="rId1"/>
          <a:stretch/>
        </p:blipFill>
        <p:spPr>
          <a:xfrm>
            <a:off x="461880" y="4157640"/>
            <a:ext cx="2171880" cy="2067120"/>
          </a:xfrm>
          <a:prstGeom prst="rect">
            <a:avLst/>
          </a:prstGeom>
          <a:ln w="0">
            <a:noFill/>
          </a:ln>
        </p:spPr>
      </p:pic>
      <p:pic>
        <p:nvPicPr>
          <p:cNvPr id="118" name="pasted-image.tif" descr=""/>
          <p:cNvPicPr/>
          <p:nvPr/>
        </p:nvPicPr>
        <p:blipFill>
          <a:blip r:embed="rId2"/>
          <a:stretch/>
        </p:blipFill>
        <p:spPr>
          <a:xfrm>
            <a:off x="6508800" y="2473200"/>
            <a:ext cx="1733400" cy="1432080"/>
          </a:xfrm>
          <a:prstGeom prst="rect">
            <a:avLst/>
          </a:prstGeom>
          <a:ln w="0">
            <a:noFill/>
          </a:ln>
        </p:spPr>
      </p:pic>
      <p:pic>
        <p:nvPicPr>
          <p:cNvPr id="119" name="pasted-image.tif" descr=""/>
          <p:cNvPicPr/>
          <p:nvPr/>
        </p:nvPicPr>
        <p:blipFill>
          <a:blip r:embed="rId3"/>
          <a:stretch/>
        </p:blipFill>
        <p:spPr>
          <a:xfrm>
            <a:off x="2108160" y="774720"/>
            <a:ext cx="1548000" cy="15476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521080" y="4402080"/>
            <a:ext cx="349092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…</a:t>
            </a:r>
            <a:r>
              <a:rPr b="0" lang="en-US" sz="19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and she is sad because her father wants her to marry Count Paris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asted-image.tif" descr=""/>
          <p:cNvPicPr/>
          <p:nvPr/>
        </p:nvPicPr>
        <p:blipFill>
          <a:blip r:embed="rId4"/>
          <a:stretch/>
        </p:blipFill>
        <p:spPr>
          <a:xfrm>
            <a:off x="3979800" y="2338560"/>
            <a:ext cx="2262240" cy="1701720"/>
          </a:xfrm>
          <a:prstGeom prst="rect">
            <a:avLst/>
          </a:prstGeom>
          <a:ln w="0">
            <a:noFill/>
          </a:ln>
        </p:spPr>
      </p:pic>
      <p:pic>
        <p:nvPicPr>
          <p:cNvPr id="122" name="pasted-image.tif" descr=""/>
          <p:cNvPicPr/>
          <p:nvPr/>
        </p:nvPicPr>
        <p:blipFill>
          <a:blip r:embed="rId5"/>
          <a:stretch/>
        </p:blipFill>
        <p:spPr>
          <a:xfrm>
            <a:off x="6259680" y="4287960"/>
            <a:ext cx="2232000" cy="23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30120" y="9504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0" lang="en-US" sz="3700" spc="-1" strike="noStrike">
                <a:solidFill>
                  <a:srgbClr val="9900ff"/>
                </a:solidFill>
                <a:latin typeface="Dyslexie Regular"/>
                <a:ea typeface="Dyslexie Regular"/>
              </a:rPr>
              <a:t>Let’s say, Juliet is unlucky!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asted-image.tif" descr=""/>
          <p:cNvPicPr/>
          <p:nvPr/>
        </p:nvPicPr>
        <p:blipFill>
          <a:blip r:embed="rId1"/>
          <a:stretch/>
        </p:blipFill>
        <p:spPr>
          <a:xfrm>
            <a:off x="5389560" y="3578400"/>
            <a:ext cx="3544920" cy="2652480"/>
          </a:xfrm>
          <a:prstGeom prst="rect">
            <a:avLst/>
          </a:prstGeom>
          <a:ln w="0">
            <a:noFill/>
          </a:ln>
        </p:spPr>
      </p:pic>
      <p:pic>
        <p:nvPicPr>
          <p:cNvPr id="125" name="pasted-image.tif" descr=""/>
          <p:cNvPicPr/>
          <p:nvPr/>
        </p:nvPicPr>
        <p:blipFill>
          <a:blip r:embed="rId2"/>
          <a:stretch/>
        </p:blipFill>
        <p:spPr>
          <a:xfrm>
            <a:off x="5448240" y="1100160"/>
            <a:ext cx="3429000" cy="2362320"/>
          </a:xfrm>
          <a:prstGeom prst="rect">
            <a:avLst/>
          </a:prstGeom>
          <a:ln w="0">
            <a:noFill/>
          </a:ln>
        </p:spPr>
      </p:pic>
      <p:pic>
        <p:nvPicPr>
          <p:cNvPr id="126" name="pasted-image.tif" descr=""/>
          <p:cNvPicPr/>
          <p:nvPr/>
        </p:nvPicPr>
        <p:blipFill>
          <a:blip r:embed="rId3"/>
          <a:stretch/>
        </p:blipFill>
        <p:spPr>
          <a:xfrm>
            <a:off x="82440" y="1125360"/>
            <a:ext cx="5159520" cy="3865680"/>
          </a:xfrm>
          <a:prstGeom prst="rect">
            <a:avLst/>
          </a:prstGeom>
          <a:ln w="0">
            <a:noFill/>
          </a:ln>
        </p:spPr>
      </p:pic>
      <p:pic>
        <p:nvPicPr>
          <p:cNvPr id="127" name="pasted-image.tif" descr=""/>
          <p:cNvPicPr/>
          <p:nvPr/>
        </p:nvPicPr>
        <p:blipFill>
          <a:blip r:embed="rId4"/>
          <a:stretch/>
        </p:blipFill>
        <p:spPr>
          <a:xfrm>
            <a:off x="1908000" y="5145120"/>
            <a:ext cx="1506600" cy="175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49640" y="9000"/>
            <a:ext cx="565920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r>
              <a:rPr b="0" lang="en-US" sz="3900" spc="-1" strike="noStrike">
                <a:solidFill>
                  <a:srgbClr val="e759f4"/>
                </a:solidFill>
                <a:latin typeface="Dyslexie Regular"/>
                <a:ea typeface="Dyslexie Regular"/>
              </a:rPr>
              <a:t>Just one night!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88880" y="851040"/>
            <a:ext cx="3490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At least Romeo and Juliet can spend one night together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asted-image.tif" descr=""/>
          <p:cNvPicPr/>
          <p:nvPr/>
        </p:nvPicPr>
        <p:blipFill>
          <a:blip r:embed="rId1"/>
          <a:stretch/>
        </p:blipFill>
        <p:spPr>
          <a:xfrm>
            <a:off x="5315040" y="966960"/>
            <a:ext cx="3492360" cy="23238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422520" y="4505400"/>
            <a:ext cx="349092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…</a:t>
            </a:r>
            <a:r>
              <a:rPr b="0" lang="en-US" sz="19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but in the early morning, Romeo must run away to Mantua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asted-image.tif" descr=""/>
          <p:cNvPicPr/>
          <p:nvPr/>
        </p:nvPicPr>
        <p:blipFill>
          <a:blip r:embed="rId2"/>
          <a:stretch/>
        </p:blipFill>
        <p:spPr>
          <a:xfrm>
            <a:off x="241200" y="4121280"/>
            <a:ext cx="3175200" cy="2565360"/>
          </a:xfrm>
          <a:prstGeom prst="rect">
            <a:avLst/>
          </a:prstGeom>
          <a:ln w="0">
            <a:noFill/>
          </a:ln>
        </p:spPr>
      </p:pic>
      <p:pic>
        <p:nvPicPr>
          <p:cNvPr id="133" name="pasted-image.tif" descr=""/>
          <p:cNvPicPr/>
          <p:nvPr/>
        </p:nvPicPr>
        <p:blipFill>
          <a:blip r:embed="rId3"/>
          <a:stretch/>
        </p:blipFill>
        <p:spPr>
          <a:xfrm>
            <a:off x="6897600" y="4282920"/>
            <a:ext cx="1959120" cy="2198880"/>
          </a:xfrm>
          <a:prstGeom prst="rect">
            <a:avLst/>
          </a:prstGeom>
          <a:ln w="0">
            <a:noFill/>
          </a:ln>
        </p:spPr>
      </p:pic>
      <p:pic>
        <p:nvPicPr>
          <p:cNvPr id="134" name="pasted-image.tif" descr=""/>
          <p:cNvPicPr/>
          <p:nvPr/>
        </p:nvPicPr>
        <p:blipFill>
          <a:blip r:embed="rId4"/>
          <a:stretch/>
        </p:blipFill>
        <p:spPr>
          <a:xfrm>
            <a:off x="2198520" y="2222640"/>
            <a:ext cx="3048120" cy="189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85400" y="813960"/>
            <a:ext cx="8466120" cy="52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A TRAGED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written by William Shakespe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It is a tragedy of LO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William Shakespeare is the most     important English author!!!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81000" y="146160"/>
            <a:ext cx="664704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0" lang="en-US" sz="3800" spc="-1" strike="noStrike">
                <a:solidFill>
                  <a:srgbClr val="e759f4"/>
                </a:solidFill>
                <a:latin typeface="Dyslexie Regular"/>
                <a:ea typeface="Dyslexie Regular"/>
              </a:rPr>
              <a:t>WH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asted-image.tif" descr=""/>
          <p:cNvPicPr/>
          <p:nvPr/>
        </p:nvPicPr>
        <p:blipFill>
          <a:blip r:embed="rId1"/>
          <a:stretch/>
        </p:blipFill>
        <p:spPr>
          <a:xfrm>
            <a:off x="6962760" y="4289400"/>
            <a:ext cx="2031840" cy="2394000"/>
          </a:xfrm>
          <a:prstGeom prst="rect">
            <a:avLst/>
          </a:prstGeom>
          <a:ln w="0">
            <a:noFill/>
          </a:ln>
        </p:spPr>
      </p:pic>
      <p:pic>
        <p:nvPicPr>
          <p:cNvPr id="46" name="pasted-image.tif" descr=""/>
          <p:cNvPicPr/>
          <p:nvPr/>
        </p:nvPicPr>
        <p:blipFill>
          <a:blip r:embed="rId2"/>
          <a:stretch/>
        </p:blipFill>
        <p:spPr>
          <a:xfrm>
            <a:off x="7021440" y="192240"/>
            <a:ext cx="1913040" cy="1811160"/>
          </a:xfrm>
          <a:prstGeom prst="rect">
            <a:avLst/>
          </a:prstGeom>
          <a:ln w="0">
            <a:noFill/>
          </a:ln>
        </p:spPr>
      </p:pic>
      <p:pic>
        <p:nvPicPr>
          <p:cNvPr id="47" name="pasted-image.tif" descr=""/>
          <p:cNvPicPr/>
          <p:nvPr/>
        </p:nvPicPr>
        <p:blipFill>
          <a:blip r:embed="rId3"/>
          <a:stretch/>
        </p:blipFill>
        <p:spPr>
          <a:xfrm>
            <a:off x="938160" y="2927520"/>
            <a:ext cx="2503440" cy="180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319480" y="20160"/>
            <a:ext cx="476856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96720"/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</a:tabLst>
            </a:pPr>
            <a:r>
              <a:rPr b="0" lang="en-US" sz="3100" spc="-1" strike="noStrike">
                <a:solidFill>
                  <a:srgbClr val="e759f4"/>
                </a:solidFill>
                <a:latin typeface="Dyslexie Regular"/>
                <a:ea typeface="Dyslexie Regular"/>
              </a:rPr>
              <a:t>To die or to sleep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6520" y="1768320"/>
            <a:ext cx="3490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Juliet goes to Friar Lawrence for advic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99040" y="3157560"/>
            <a:ext cx="3490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Friar Lawrence gives Juliet a special type of poiso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84240" y="5146560"/>
            <a:ext cx="3490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She will seem dead, but she will be just asleep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asted-image.tif" descr=""/>
          <p:cNvPicPr/>
          <p:nvPr/>
        </p:nvPicPr>
        <p:blipFill>
          <a:blip r:embed="rId1"/>
          <a:stretch/>
        </p:blipFill>
        <p:spPr>
          <a:xfrm>
            <a:off x="101520" y="58680"/>
            <a:ext cx="1798560" cy="1433520"/>
          </a:xfrm>
          <a:prstGeom prst="rect">
            <a:avLst/>
          </a:prstGeom>
          <a:ln w="0">
            <a:noFill/>
          </a:ln>
        </p:spPr>
      </p:pic>
      <p:pic>
        <p:nvPicPr>
          <p:cNvPr id="140" name="pasted-image.tif" descr=""/>
          <p:cNvPicPr/>
          <p:nvPr/>
        </p:nvPicPr>
        <p:blipFill>
          <a:blip r:embed="rId2"/>
          <a:stretch/>
        </p:blipFill>
        <p:spPr>
          <a:xfrm>
            <a:off x="7510320" y="4956120"/>
            <a:ext cx="1308240" cy="1325520"/>
          </a:xfrm>
          <a:prstGeom prst="rect">
            <a:avLst/>
          </a:prstGeom>
          <a:ln w="0">
            <a:noFill/>
          </a:ln>
        </p:spPr>
      </p:pic>
      <p:pic>
        <p:nvPicPr>
          <p:cNvPr id="141" name="pasted-image.tif" descr=""/>
          <p:cNvPicPr/>
          <p:nvPr/>
        </p:nvPicPr>
        <p:blipFill>
          <a:blip r:embed="rId3"/>
          <a:stretch/>
        </p:blipFill>
        <p:spPr>
          <a:xfrm>
            <a:off x="4368960" y="1384200"/>
            <a:ext cx="2420640" cy="1625760"/>
          </a:xfrm>
          <a:prstGeom prst="rect">
            <a:avLst/>
          </a:prstGeom>
          <a:ln w="0">
            <a:noFill/>
          </a:ln>
        </p:spPr>
      </p:pic>
      <p:pic>
        <p:nvPicPr>
          <p:cNvPr id="142" name="pasted-image.tif" descr=""/>
          <p:cNvPicPr/>
          <p:nvPr/>
        </p:nvPicPr>
        <p:blipFill>
          <a:blip r:embed="rId4"/>
          <a:stretch/>
        </p:blipFill>
        <p:spPr>
          <a:xfrm>
            <a:off x="7161120" y="101520"/>
            <a:ext cx="1798560" cy="1347840"/>
          </a:xfrm>
          <a:prstGeom prst="rect">
            <a:avLst/>
          </a:prstGeom>
          <a:ln w="0">
            <a:noFill/>
          </a:ln>
        </p:spPr>
      </p:pic>
      <p:pic>
        <p:nvPicPr>
          <p:cNvPr id="143" name="pasted-image.tif" descr=""/>
          <p:cNvPicPr/>
          <p:nvPr/>
        </p:nvPicPr>
        <p:blipFill>
          <a:blip r:embed="rId5"/>
          <a:stretch/>
        </p:blipFill>
        <p:spPr>
          <a:xfrm>
            <a:off x="641520" y="2784600"/>
            <a:ext cx="2071440" cy="2073240"/>
          </a:xfrm>
          <a:prstGeom prst="rect">
            <a:avLst/>
          </a:prstGeom>
          <a:ln w="0">
            <a:noFill/>
          </a:ln>
        </p:spPr>
      </p:pic>
      <p:pic>
        <p:nvPicPr>
          <p:cNvPr id="144" name="pasted-image.tif" descr=""/>
          <p:cNvPicPr/>
          <p:nvPr/>
        </p:nvPicPr>
        <p:blipFill>
          <a:blip r:embed="rId6"/>
          <a:stretch/>
        </p:blipFill>
        <p:spPr>
          <a:xfrm>
            <a:off x="3105000" y="3321000"/>
            <a:ext cx="1603440" cy="15145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 flipH="1">
            <a:off x="4253040" y="4302000"/>
            <a:ext cx="1962000" cy="0"/>
          </a:xfrm>
          <a:prstGeom prst="line">
            <a:avLst/>
          </a:prstGeom>
          <a:ln w="255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asted-image.tif" descr=""/>
          <p:cNvPicPr/>
          <p:nvPr/>
        </p:nvPicPr>
        <p:blipFill>
          <a:blip r:embed="rId7"/>
          <a:stretch/>
        </p:blipFill>
        <p:spPr>
          <a:xfrm>
            <a:off x="4552920" y="4732200"/>
            <a:ext cx="2879640" cy="17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335040" y="109080"/>
            <a:ext cx="476892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r>
              <a:rPr b="0" lang="en-US" sz="4100" spc="-1" strike="noStrike">
                <a:solidFill>
                  <a:srgbClr val="e759f4"/>
                </a:solidFill>
                <a:latin typeface="Dyslexie Regular"/>
                <a:ea typeface="Dyslexie Regular"/>
              </a:rPr>
              <a:t>A smart plan!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25640" y="1285920"/>
            <a:ext cx="3490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Friar Lawrence plans to send a message to Romeo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668760" y="3324240"/>
            <a:ext cx="5478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…</a:t>
            </a:r>
            <a:r>
              <a:rPr b="0" lang="en-US" sz="19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so that he can come back to Verona and meet Juliet when she wakes up in her family’s tomb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95600" y="5261040"/>
            <a:ext cx="3490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Then they can leave Verona and be togethe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asted-image.tif" descr=""/>
          <p:cNvPicPr/>
          <p:nvPr/>
        </p:nvPicPr>
        <p:blipFill>
          <a:blip r:embed="rId1"/>
          <a:stretch/>
        </p:blipFill>
        <p:spPr>
          <a:xfrm>
            <a:off x="6541920" y="790560"/>
            <a:ext cx="2082960" cy="2336760"/>
          </a:xfrm>
          <a:prstGeom prst="rect">
            <a:avLst/>
          </a:prstGeom>
          <a:ln w="0">
            <a:noFill/>
          </a:ln>
        </p:spPr>
      </p:pic>
      <p:pic>
        <p:nvPicPr>
          <p:cNvPr id="152" name="pasted-image.tif" descr=""/>
          <p:cNvPicPr/>
          <p:nvPr/>
        </p:nvPicPr>
        <p:blipFill>
          <a:blip r:embed="rId2"/>
          <a:stretch/>
        </p:blipFill>
        <p:spPr>
          <a:xfrm>
            <a:off x="825480" y="11160"/>
            <a:ext cx="2082960" cy="1601640"/>
          </a:xfrm>
          <a:prstGeom prst="rect">
            <a:avLst/>
          </a:prstGeom>
          <a:ln w="0">
            <a:noFill/>
          </a:ln>
        </p:spPr>
      </p:pic>
      <p:pic>
        <p:nvPicPr>
          <p:cNvPr id="153" name="pasted-image.tif" descr=""/>
          <p:cNvPicPr/>
          <p:nvPr/>
        </p:nvPicPr>
        <p:blipFill>
          <a:blip r:embed="rId3"/>
          <a:stretch/>
        </p:blipFill>
        <p:spPr>
          <a:xfrm>
            <a:off x="5743440" y="4700520"/>
            <a:ext cx="2911680" cy="2016360"/>
          </a:xfrm>
          <a:prstGeom prst="rect">
            <a:avLst/>
          </a:prstGeom>
          <a:ln w="0">
            <a:noFill/>
          </a:ln>
        </p:spPr>
      </p:pic>
      <p:pic>
        <p:nvPicPr>
          <p:cNvPr id="154" name="pasted-image.tif" descr=""/>
          <p:cNvPicPr/>
          <p:nvPr/>
        </p:nvPicPr>
        <p:blipFill>
          <a:blip r:embed="rId4"/>
          <a:stretch/>
        </p:blipFill>
        <p:spPr>
          <a:xfrm>
            <a:off x="184320" y="2755800"/>
            <a:ext cx="3593880" cy="226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14320" y="95400"/>
            <a:ext cx="80503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Dyslexie Regular"/>
                <a:ea typeface="Dyslexie Regular"/>
              </a:rPr>
              <a:t>Think about i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asted-image.tif" descr=""/>
          <p:cNvPicPr/>
          <p:nvPr/>
        </p:nvPicPr>
        <p:blipFill>
          <a:blip r:embed="rId1"/>
          <a:stretch/>
        </p:blipFill>
        <p:spPr>
          <a:xfrm>
            <a:off x="111240" y="1028880"/>
            <a:ext cx="5011560" cy="3759120"/>
          </a:xfrm>
          <a:prstGeom prst="rect">
            <a:avLst/>
          </a:prstGeom>
          <a:ln w="0">
            <a:noFill/>
          </a:ln>
        </p:spPr>
      </p:pic>
      <p:pic>
        <p:nvPicPr>
          <p:cNvPr id="157" name="pasted-image.tif" descr=""/>
          <p:cNvPicPr/>
          <p:nvPr/>
        </p:nvPicPr>
        <p:blipFill>
          <a:blip r:embed="rId2"/>
          <a:stretch/>
        </p:blipFill>
        <p:spPr>
          <a:xfrm>
            <a:off x="5105520" y="1009800"/>
            <a:ext cx="3809880" cy="2133360"/>
          </a:xfrm>
          <a:prstGeom prst="rect">
            <a:avLst/>
          </a:prstGeom>
          <a:ln w="0">
            <a:noFill/>
          </a:ln>
        </p:spPr>
      </p:pic>
      <p:pic>
        <p:nvPicPr>
          <p:cNvPr id="158" name="pasted-image.tif" descr=""/>
          <p:cNvPicPr/>
          <p:nvPr/>
        </p:nvPicPr>
        <p:blipFill>
          <a:blip r:embed="rId3"/>
          <a:stretch/>
        </p:blipFill>
        <p:spPr>
          <a:xfrm>
            <a:off x="6172200" y="3143160"/>
            <a:ext cx="2540160" cy="2857680"/>
          </a:xfrm>
          <a:prstGeom prst="rect">
            <a:avLst/>
          </a:prstGeom>
          <a:ln w="0">
            <a:noFill/>
          </a:ln>
        </p:spPr>
      </p:pic>
      <p:pic>
        <p:nvPicPr>
          <p:cNvPr id="159" name="pasted-image.tif" descr=""/>
          <p:cNvPicPr/>
          <p:nvPr/>
        </p:nvPicPr>
        <p:blipFill>
          <a:blip r:embed="rId4"/>
          <a:stretch/>
        </p:blipFill>
        <p:spPr>
          <a:xfrm>
            <a:off x="1631880" y="4819680"/>
            <a:ext cx="271152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4112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r>
              <a:rPr b="0" lang="en-US" sz="4200" spc="-1" strike="noStrike">
                <a:solidFill>
                  <a:srgbClr val="9900ff"/>
                </a:solidFill>
                <a:latin typeface="Dyslexie Regular"/>
                <a:ea typeface="Dyslexie Regular"/>
              </a:rPr>
              <a:t>Come on, it’s a tragedy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asted-image.tif" descr=""/>
          <p:cNvPicPr/>
          <p:nvPr/>
        </p:nvPicPr>
        <p:blipFill>
          <a:blip r:embed="rId1"/>
          <a:stretch/>
        </p:blipFill>
        <p:spPr>
          <a:xfrm>
            <a:off x="90360" y="1246320"/>
            <a:ext cx="5008680" cy="2608200"/>
          </a:xfrm>
          <a:prstGeom prst="rect">
            <a:avLst/>
          </a:prstGeom>
          <a:ln w="0">
            <a:noFill/>
          </a:ln>
        </p:spPr>
      </p:pic>
      <p:pic>
        <p:nvPicPr>
          <p:cNvPr id="162" name="pasted-image.tif" descr=""/>
          <p:cNvPicPr/>
          <p:nvPr/>
        </p:nvPicPr>
        <p:blipFill>
          <a:blip r:embed="rId2"/>
          <a:stretch/>
        </p:blipFill>
        <p:spPr>
          <a:xfrm>
            <a:off x="5734080" y="1434960"/>
            <a:ext cx="2603520" cy="1981440"/>
          </a:xfrm>
          <a:prstGeom prst="rect">
            <a:avLst/>
          </a:prstGeom>
          <a:ln w="0">
            <a:noFill/>
          </a:ln>
        </p:spPr>
      </p:pic>
      <p:pic>
        <p:nvPicPr>
          <p:cNvPr id="163" name="pasted-image.tif" descr=""/>
          <p:cNvPicPr/>
          <p:nvPr/>
        </p:nvPicPr>
        <p:blipFill>
          <a:blip r:embed="rId3"/>
          <a:stretch/>
        </p:blipFill>
        <p:spPr>
          <a:xfrm>
            <a:off x="4241880" y="3930480"/>
            <a:ext cx="4616280" cy="2608560"/>
          </a:xfrm>
          <a:prstGeom prst="rect">
            <a:avLst/>
          </a:prstGeom>
          <a:ln w="0">
            <a:noFill/>
          </a:ln>
        </p:spPr>
      </p:pic>
      <p:pic>
        <p:nvPicPr>
          <p:cNvPr id="164" name="pasted-image.tif" descr=""/>
          <p:cNvPicPr/>
          <p:nvPr/>
        </p:nvPicPr>
        <p:blipFill>
          <a:blip r:embed="rId4"/>
          <a:stretch/>
        </p:blipFill>
        <p:spPr>
          <a:xfrm>
            <a:off x="539640" y="3976560"/>
            <a:ext cx="323856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19480" y="20160"/>
            <a:ext cx="476856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0" spc="-1" strike="noStrike">
                <a:solidFill>
                  <a:srgbClr val="e759f4"/>
                </a:solidFill>
                <a:latin typeface="Dyslexie Regular"/>
                <a:ea typeface="Dyslexie Regular"/>
              </a:rPr>
              <a:t>What a mes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39760" y="955800"/>
            <a:ext cx="4162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Juliet follows her part of the plan but something goes very wrong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48120" y="3330720"/>
            <a:ext cx="49021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Friar Lawrence’s message never makes it to Rome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2120" y="5248440"/>
            <a:ext cx="3490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Instead, Romeo hears that Juliet is dead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asted-image.tif" descr=""/>
          <p:cNvPicPr/>
          <p:nvPr/>
        </p:nvPicPr>
        <p:blipFill>
          <a:blip r:embed="rId1"/>
          <a:stretch/>
        </p:blipFill>
        <p:spPr>
          <a:xfrm>
            <a:off x="4603680" y="866880"/>
            <a:ext cx="2281320" cy="2280960"/>
          </a:xfrm>
          <a:prstGeom prst="rect">
            <a:avLst/>
          </a:prstGeom>
          <a:ln w="0">
            <a:noFill/>
          </a:ln>
        </p:spPr>
      </p:pic>
      <p:pic>
        <p:nvPicPr>
          <p:cNvPr id="170" name="pasted-image.tif" descr=""/>
          <p:cNvPicPr/>
          <p:nvPr/>
        </p:nvPicPr>
        <p:blipFill>
          <a:blip r:embed="rId2"/>
          <a:stretch/>
        </p:blipFill>
        <p:spPr>
          <a:xfrm>
            <a:off x="219240" y="2698920"/>
            <a:ext cx="3822480" cy="21207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 flipH="1" flipV="1">
            <a:off x="2209320" y="3449520"/>
            <a:ext cx="2644920" cy="424080"/>
          </a:xfrm>
          <a:prstGeom prst="line">
            <a:avLst/>
          </a:prstGeom>
          <a:ln w="25560">
            <a:solidFill>
              <a:srgbClr val="bbe0e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asted-image.tif" descr=""/>
          <p:cNvPicPr/>
          <p:nvPr/>
        </p:nvPicPr>
        <p:blipFill>
          <a:blip r:embed="rId3"/>
          <a:stretch/>
        </p:blipFill>
        <p:spPr>
          <a:xfrm>
            <a:off x="5452920" y="4368960"/>
            <a:ext cx="2130480" cy="212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13356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96720"/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</a:tabLst>
            </a:pPr>
            <a:r>
              <a:rPr b="0" lang="en-US" sz="2600" spc="-1" strike="noStrike">
                <a:solidFill>
                  <a:srgbClr val="9900ff"/>
                </a:solidFill>
                <a:latin typeface="Dyslexie Regular"/>
                <a:ea typeface="Dyslexie Regular"/>
              </a:rPr>
              <a:t>How would you feel if you were Romeo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asted-image.tif" descr=""/>
          <p:cNvPicPr/>
          <p:nvPr/>
        </p:nvPicPr>
        <p:blipFill>
          <a:blip r:embed="rId1"/>
          <a:stretch/>
        </p:blipFill>
        <p:spPr>
          <a:xfrm>
            <a:off x="5816520" y="1347840"/>
            <a:ext cx="3281400" cy="2232000"/>
          </a:xfrm>
          <a:prstGeom prst="rect">
            <a:avLst/>
          </a:prstGeom>
          <a:ln w="0">
            <a:noFill/>
          </a:ln>
        </p:spPr>
      </p:pic>
      <p:pic>
        <p:nvPicPr>
          <p:cNvPr id="175" name="pasted-image.tif" descr=""/>
          <p:cNvPicPr/>
          <p:nvPr/>
        </p:nvPicPr>
        <p:blipFill>
          <a:blip r:embed="rId2"/>
          <a:stretch/>
        </p:blipFill>
        <p:spPr>
          <a:xfrm>
            <a:off x="5710320" y="3591000"/>
            <a:ext cx="3492360" cy="2324160"/>
          </a:xfrm>
          <a:prstGeom prst="rect">
            <a:avLst/>
          </a:prstGeom>
          <a:ln w="0">
            <a:noFill/>
          </a:ln>
        </p:spPr>
      </p:pic>
      <p:pic>
        <p:nvPicPr>
          <p:cNvPr id="176" name="pasted-image.tif" descr=""/>
          <p:cNvPicPr/>
          <p:nvPr/>
        </p:nvPicPr>
        <p:blipFill>
          <a:blip r:embed="rId3"/>
          <a:stretch/>
        </p:blipFill>
        <p:spPr>
          <a:xfrm>
            <a:off x="228600" y="1352520"/>
            <a:ext cx="5638680" cy="3168720"/>
          </a:xfrm>
          <a:prstGeom prst="rect">
            <a:avLst/>
          </a:prstGeom>
          <a:ln w="0">
            <a:noFill/>
          </a:ln>
        </p:spPr>
      </p:pic>
      <p:pic>
        <p:nvPicPr>
          <p:cNvPr id="177" name="pasted-image.tif" descr=""/>
          <p:cNvPicPr/>
          <p:nvPr/>
        </p:nvPicPr>
        <p:blipFill>
          <a:blip r:embed="rId4"/>
          <a:stretch/>
        </p:blipFill>
        <p:spPr>
          <a:xfrm>
            <a:off x="203040" y="673200"/>
            <a:ext cx="1092240" cy="1092240"/>
          </a:xfrm>
          <a:prstGeom prst="rect">
            <a:avLst/>
          </a:prstGeom>
          <a:ln w="0">
            <a:noFill/>
          </a:ln>
        </p:spPr>
      </p:pic>
      <p:pic>
        <p:nvPicPr>
          <p:cNvPr id="178" name="pasted-image.tif" descr=""/>
          <p:cNvPicPr/>
          <p:nvPr/>
        </p:nvPicPr>
        <p:blipFill>
          <a:blip r:embed="rId5"/>
          <a:stretch/>
        </p:blipFill>
        <p:spPr>
          <a:xfrm>
            <a:off x="1697040" y="4079880"/>
            <a:ext cx="1224000" cy="1144440"/>
          </a:xfrm>
          <a:prstGeom prst="rect">
            <a:avLst/>
          </a:prstGeom>
          <a:ln w="0">
            <a:noFill/>
          </a:ln>
        </p:spPr>
      </p:pic>
      <p:pic>
        <p:nvPicPr>
          <p:cNvPr id="179" name="pasted-image.tif" descr=""/>
          <p:cNvPicPr/>
          <p:nvPr/>
        </p:nvPicPr>
        <p:blipFill>
          <a:blip r:embed="rId6"/>
          <a:stretch/>
        </p:blipFill>
        <p:spPr>
          <a:xfrm>
            <a:off x="4349880" y="5707080"/>
            <a:ext cx="795240" cy="792000"/>
          </a:xfrm>
          <a:prstGeom prst="rect">
            <a:avLst/>
          </a:prstGeom>
          <a:ln w="0">
            <a:noFill/>
          </a:ln>
        </p:spPr>
      </p:pic>
      <p:pic>
        <p:nvPicPr>
          <p:cNvPr id="180" name="pasted-image.tif" descr=""/>
          <p:cNvPicPr/>
          <p:nvPr/>
        </p:nvPicPr>
        <p:blipFill>
          <a:blip r:embed="rId7"/>
          <a:stretch/>
        </p:blipFill>
        <p:spPr>
          <a:xfrm>
            <a:off x="4013280" y="3979800"/>
            <a:ext cx="1344600" cy="1344600"/>
          </a:xfrm>
          <a:prstGeom prst="rect">
            <a:avLst/>
          </a:prstGeom>
          <a:ln w="0">
            <a:noFill/>
          </a:ln>
        </p:spPr>
      </p:pic>
      <p:pic>
        <p:nvPicPr>
          <p:cNvPr id="181" name="pasted-image.tif" descr=""/>
          <p:cNvPicPr/>
          <p:nvPr/>
        </p:nvPicPr>
        <p:blipFill>
          <a:blip r:embed="rId8"/>
          <a:stretch/>
        </p:blipFill>
        <p:spPr>
          <a:xfrm>
            <a:off x="5506920" y="5230800"/>
            <a:ext cx="1820880" cy="1542960"/>
          </a:xfrm>
          <a:prstGeom prst="rect">
            <a:avLst/>
          </a:prstGeom>
          <a:ln w="0">
            <a:noFill/>
          </a:ln>
        </p:spPr>
      </p:pic>
      <p:pic>
        <p:nvPicPr>
          <p:cNvPr id="182" name="pasted-image.tif" descr=""/>
          <p:cNvPicPr/>
          <p:nvPr/>
        </p:nvPicPr>
        <p:blipFill>
          <a:blip r:embed="rId9"/>
          <a:stretch/>
        </p:blipFill>
        <p:spPr>
          <a:xfrm>
            <a:off x="2827440" y="4081320"/>
            <a:ext cx="1342800" cy="1344600"/>
          </a:xfrm>
          <a:prstGeom prst="rect">
            <a:avLst/>
          </a:prstGeom>
          <a:ln w="0">
            <a:noFill/>
          </a:ln>
        </p:spPr>
      </p:pic>
      <p:pic>
        <p:nvPicPr>
          <p:cNvPr id="183" name="pasted-image.tif" descr=""/>
          <p:cNvPicPr/>
          <p:nvPr/>
        </p:nvPicPr>
        <p:blipFill>
          <a:blip r:embed="rId10"/>
          <a:stretch/>
        </p:blipFill>
        <p:spPr>
          <a:xfrm>
            <a:off x="8077320" y="581040"/>
            <a:ext cx="1046160" cy="1047600"/>
          </a:xfrm>
          <a:prstGeom prst="rect">
            <a:avLst/>
          </a:prstGeom>
          <a:ln w="0">
            <a:noFill/>
          </a:ln>
        </p:spPr>
      </p:pic>
      <p:pic>
        <p:nvPicPr>
          <p:cNvPr id="184" name="pasted-image.tif" descr=""/>
          <p:cNvPicPr/>
          <p:nvPr/>
        </p:nvPicPr>
        <p:blipFill>
          <a:blip r:embed="rId11"/>
          <a:stretch/>
        </p:blipFill>
        <p:spPr>
          <a:xfrm>
            <a:off x="157320" y="4089240"/>
            <a:ext cx="1650960" cy="2649600"/>
          </a:xfrm>
          <a:prstGeom prst="rect">
            <a:avLst/>
          </a:prstGeom>
          <a:ln w="0">
            <a:noFill/>
          </a:ln>
        </p:spPr>
      </p:pic>
      <p:pic>
        <p:nvPicPr>
          <p:cNvPr id="185" name="pasted-image.tif" descr=""/>
          <p:cNvPicPr/>
          <p:nvPr/>
        </p:nvPicPr>
        <p:blipFill>
          <a:blip r:embed="rId12"/>
          <a:stretch/>
        </p:blipFill>
        <p:spPr>
          <a:xfrm>
            <a:off x="1289160" y="766800"/>
            <a:ext cx="2187360" cy="1638360"/>
          </a:xfrm>
          <a:prstGeom prst="rect">
            <a:avLst/>
          </a:prstGeom>
          <a:ln w="0">
            <a:noFill/>
          </a:ln>
        </p:spPr>
      </p:pic>
      <p:pic>
        <p:nvPicPr>
          <p:cNvPr id="186" name="pasted-image.tif" descr=""/>
          <p:cNvPicPr/>
          <p:nvPr/>
        </p:nvPicPr>
        <p:blipFill>
          <a:blip r:embed="rId13"/>
          <a:stretch/>
        </p:blipFill>
        <p:spPr>
          <a:xfrm>
            <a:off x="7369200" y="5614920"/>
            <a:ext cx="1820880" cy="1233720"/>
          </a:xfrm>
          <a:prstGeom prst="rect">
            <a:avLst/>
          </a:prstGeom>
          <a:ln w="0">
            <a:noFill/>
          </a:ln>
        </p:spPr>
      </p:pic>
      <p:pic>
        <p:nvPicPr>
          <p:cNvPr id="187" name="pasted-image.tif" descr=""/>
          <p:cNvPicPr/>
          <p:nvPr/>
        </p:nvPicPr>
        <p:blipFill>
          <a:blip r:embed="rId14"/>
          <a:stretch/>
        </p:blipFill>
        <p:spPr>
          <a:xfrm>
            <a:off x="1833480" y="5284800"/>
            <a:ext cx="2154240" cy="163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19480" y="20160"/>
            <a:ext cx="476856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r>
              <a:rPr b="0" lang="en-US" sz="4100" spc="-1" strike="noStrike">
                <a:solidFill>
                  <a:srgbClr val="e759f4"/>
                </a:solidFill>
                <a:latin typeface="Dyslexie Regular"/>
                <a:ea typeface="Dyslexie Regular"/>
              </a:rPr>
              <a:t>Ok, let’s die.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484280" y="1928880"/>
            <a:ext cx="4619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Romeo comes back to Verona with a very strong poison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130640" y="2998800"/>
            <a:ext cx="49021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He enters the tomb and finds Juliet dead. He says his last words (blablabla) and di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7040" y="4743360"/>
            <a:ext cx="514836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Juliet wakes up to find Romeo dead next to her. She stabs herself with Romeo’s dagger and she dies, to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asted-image.tif" descr=""/>
          <p:cNvPicPr/>
          <p:nvPr/>
        </p:nvPicPr>
        <p:blipFill>
          <a:blip r:embed="rId1"/>
          <a:stretch/>
        </p:blipFill>
        <p:spPr>
          <a:xfrm>
            <a:off x="6264360" y="977760"/>
            <a:ext cx="1347840" cy="1903680"/>
          </a:xfrm>
          <a:prstGeom prst="rect">
            <a:avLst/>
          </a:prstGeom>
          <a:ln w="0">
            <a:noFill/>
          </a:ln>
        </p:spPr>
      </p:pic>
      <p:pic>
        <p:nvPicPr>
          <p:cNvPr id="193" name="pasted-image.tif" descr=""/>
          <p:cNvPicPr/>
          <p:nvPr/>
        </p:nvPicPr>
        <p:blipFill>
          <a:blip r:embed="rId2"/>
          <a:stretch/>
        </p:blipFill>
        <p:spPr>
          <a:xfrm>
            <a:off x="477720" y="2925720"/>
            <a:ext cx="3648240" cy="1523880"/>
          </a:xfrm>
          <a:prstGeom prst="rect">
            <a:avLst/>
          </a:prstGeom>
          <a:ln w="0">
            <a:noFill/>
          </a:ln>
        </p:spPr>
      </p:pic>
      <p:pic>
        <p:nvPicPr>
          <p:cNvPr id="194" name="pasted-image.tif" descr=""/>
          <p:cNvPicPr/>
          <p:nvPr/>
        </p:nvPicPr>
        <p:blipFill>
          <a:blip r:embed="rId3"/>
          <a:stretch/>
        </p:blipFill>
        <p:spPr>
          <a:xfrm>
            <a:off x="5997600" y="4537080"/>
            <a:ext cx="2262240" cy="1903320"/>
          </a:xfrm>
          <a:prstGeom prst="rect">
            <a:avLst/>
          </a:prstGeom>
          <a:ln w="0">
            <a:noFill/>
          </a:ln>
        </p:spPr>
      </p:pic>
      <p:pic>
        <p:nvPicPr>
          <p:cNvPr id="195" name="pasted-image.tif" descr=""/>
          <p:cNvPicPr/>
          <p:nvPr/>
        </p:nvPicPr>
        <p:blipFill>
          <a:blip r:embed="rId4"/>
          <a:stretch/>
        </p:blipFill>
        <p:spPr>
          <a:xfrm>
            <a:off x="217440" y="95400"/>
            <a:ext cx="1795680" cy="179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0600" y="20520"/>
            <a:ext cx="5797440" cy="10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2900" spc="-1" strike="noStrike">
                <a:solidFill>
                  <a:srgbClr val="e759f4"/>
                </a:solidFill>
                <a:latin typeface="Dyslexie Regular"/>
                <a:ea typeface="Dyslexie Regular"/>
              </a:rPr>
              <a:t>All well that ends well…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57040" y="901800"/>
            <a:ext cx="5335560" cy="9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Of course, this is a tragedy, because the protagonists di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But there is one positive thing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041720" y="2822400"/>
            <a:ext cx="490212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When the Capulets and the Montagues learn what happened with their children, they agree to end the years of fighting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08200" y="4908600"/>
            <a:ext cx="514800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Prince Escalus hopes that the story of Romeo and Juliet will help to keep Verona a peaceful plac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asted-image.tif" descr=""/>
          <p:cNvPicPr/>
          <p:nvPr/>
        </p:nvPicPr>
        <p:blipFill>
          <a:blip r:embed="rId1"/>
          <a:stretch/>
        </p:blipFill>
        <p:spPr>
          <a:xfrm>
            <a:off x="5954760" y="820800"/>
            <a:ext cx="2017800" cy="2019240"/>
          </a:xfrm>
          <a:prstGeom prst="rect">
            <a:avLst/>
          </a:prstGeom>
          <a:ln w="0">
            <a:noFill/>
          </a:ln>
        </p:spPr>
      </p:pic>
      <p:pic>
        <p:nvPicPr>
          <p:cNvPr id="201" name="pasted-image.tif" descr=""/>
          <p:cNvPicPr/>
          <p:nvPr/>
        </p:nvPicPr>
        <p:blipFill>
          <a:blip r:embed="rId2"/>
          <a:stretch/>
        </p:blipFill>
        <p:spPr>
          <a:xfrm>
            <a:off x="968400" y="2530440"/>
            <a:ext cx="2452680" cy="1998720"/>
          </a:xfrm>
          <a:prstGeom prst="rect">
            <a:avLst/>
          </a:prstGeom>
          <a:ln w="0">
            <a:noFill/>
          </a:ln>
        </p:spPr>
      </p:pic>
      <p:pic>
        <p:nvPicPr>
          <p:cNvPr id="202" name="pasted-image.tif" descr=""/>
          <p:cNvPicPr/>
          <p:nvPr/>
        </p:nvPicPr>
        <p:blipFill>
          <a:blip r:embed="rId3"/>
          <a:stretch/>
        </p:blipFill>
        <p:spPr>
          <a:xfrm>
            <a:off x="6627960" y="4695840"/>
            <a:ext cx="1566720" cy="201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500" spc="-1" strike="noStrike">
                <a:solidFill>
                  <a:srgbClr val="ff0066"/>
                </a:solidFill>
                <a:latin typeface="Dyslexie Regular"/>
                <a:ea typeface="Dyslexie Regular"/>
              </a:rPr>
              <a:t>Make a list of all the characters and revise the stor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-92520" y="3634920"/>
            <a:ext cx="300852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r>
              <a:rPr b="0" lang="en-US" sz="2600" spc="-1" strike="noStrike">
                <a:solidFill>
                  <a:srgbClr val="ff6c3d"/>
                </a:solidFill>
                <a:latin typeface="Dyslexie Regular"/>
                <a:ea typeface="Dyslexie Regular"/>
              </a:rPr>
              <a:t>Montag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645240" y="3724200"/>
            <a:ext cx="2227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r>
              <a:rPr b="0" lang="en-US" sz="2600" spc="-1" strike="noStrike">
                <a:solidFill>
                  <a:srgbClr val="ff59ec"/>
                </a:solidFill>
                <a:latin typeface="Dyslexie Regular"/>
                <a:ea typeface="Dyslexie Regular"/>
              </a:rPr>
              <a:t>Capule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14200" y="2454120"/>
            <a:ext cx="300852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ae4bff"/>
                </a:solidFill>
                <a:latin typeface="Dyslexie Regular"/>
                <a:ea typeface="Dyslexie Regular"/>
              </a:rPr>
              <a:t>Protagoni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94520" y="2330280"/>
            <a:ext cx="2798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2700" spc="-1" strike="noStrike">
                <a:solidFill>
                  <a:srgbClr val="ae4bff"/>
                </a:solidFill>
                <a:latin typeface="Dyslexie Regular"/>
                <a:ea typeface="Dyslexie Regular"/>
              </a:rPr>
              <a:t>Antagonis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606840" y="3122640"/>
            <a:ext cx="1928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r>
              <a:rPr b="0" lang="en-US" sz="2600" spc="-1" strike="noStrike">
                <a:solidFill>
                  <a:srgbClr val="4c3ffc"/>
                </a:solidFill>
                <a:latin typeface="Dyslexie Regular"/>
                <a:ea typeface="Dyslexie Regular"/>
              </a:rPr>
              <a:t>Se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52760" y="4627440"/>
            <a:ext cx="1927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r>
              <a:rPr b="0" lang="en-US" sz="2600" spc="-1" strike="noStrike">
                <a:solidFill>
                  <a:srgbClr val="3bd263"/>
                </a:solidFill>
                <a:latin typeface="Dyslexie Regular"/>
                <a:ea typeface="Dyslexie Regular"/>
              </a:rPr>
              <a:t>Help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46240" y="4626000"/>
            <a:ext cx="19285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d98b7"/>
                </a:solidFill>
                <a:latin typeface="Dyslexie Regular"/>
                <a:ea typeface="Dyslexie Regular"/>
              </a:rPr>
              <a:t>Helping objec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069680" y="5022720"/>
            <a:ext cx="1378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r>
              <a:rPr b="0" lang="en-US" sz="2600" spc="-1" strike="noStrike">
                <a:solidFill>
                  <a:srgbClr val="4c3ffc"/>
                </a:solidFill>
                <a:latin typeface="Dyslexie Regular"/>
                <a:ea typeface="Dyslexie Regular"/>
              </a:rPr>
              <a:t>Villain(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70160" y="5753160"/>
            <a:ext cx="2797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r>
              <a:rPr b="1" lang="en-US" sz="2600" spc="-1" strike="noStrike">
                <a:solidFill>
                  <a:srgbClr val="decf24"/>
                </a:solidFill>
                <a:latin typeface="Dyslexie Regular"/>
                <a:ea typeface="Dyslexie Regular"/>
              </a:rPr>
              <a:t>Good charac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733920" y="1776240"/>
            <a:ext cx="1928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r>
              <a:rPr b="0" lang="en-US" sz="2600" spc="-1" strike="noStrike">
                <a:solidFill>
                  <a:srgbClr val="2ff9e7"/>
                </a:solidFill>
                <a:latin typeface="Dyslexie Regular"/>
                <a:ea typeface="Dyslexie Regular"/>
              </a:rPr>
              <a:t>Auth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asted-image.tif" descr=""/>
          <p:cNvPicPr/>
          <p:nvPr/>
        </p:nvPicPr>
        <p:blipFill>
          <a:blip r:embed="rId1"/>
          <a:stretch/>
        </p:blipFill>
        <p:spPr>
          <a:xfrm>
            <a:off x="44280" y="131760"/>
            <a:ext cx="9587160" cy="60847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95400" y="355680"/>
            <a:ext cx="2805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bda"/>
                </a:solidFill>
                <a:latin typeface="Dyslexie Regular"/>
                <a:ea typeface="Dyslexie Regular"/>
              </a:rPr>
              <a:t>Now you know interesting facts about Romeo and Juliet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2560" y="69840"/>
            <a:ext cx="8580240" cy="62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r>
              <a:rPr b="0" lang="en-US" sz="3000" spc="-1" strike="noStrike">
                <a:solidFill>
                  <a:srgbClr val="e759f4"/>
                </a:solidFill>
                <a:latin typeface="Dyslexie Regular"/>
                <a:ea typeface="Dyslexie Regular"/>
              </a:rPr>
              <a:t>PROLOG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703080"/>
            <a:ext cx="839772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TWO HOUSEHOLDS: Two famili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BOTH ALIKE IN DIGNITY: They were similar in power and respec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IN FAIR VERONA: In the nice Veron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WHERE WE LAY OUR SCENE: Where the story takes pla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FROM ANCIENT GRUDGE: From an old hat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BREAK TO NEW MUTINITY: They start another figh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WHERE CIVIL BLOOD: Where the blood of the peop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MAKES CIVIL HANDS UNCLEAN: Makes people’s hands dirt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asted-image.tif" descr=""/>
          <p:cNvPicPr/>
          <p:nvPr/>
        </p:nvPicPr>
        <p:blipFill>
          <a:blip r:embed="rId1"/>
          <a:stretch/>
        </p:blipFill>
        <p:spPr>
          <a:xfrm>
            <a:off x="5565600" y="4762440"/>
            <a:ext cx="2865600" cy="201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80" y="6120"/>
            <a:ext cx="858060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r>
              <a:rPr b="0" lang="en-US" sz="3000" spc="-1" strike="noStrike">
                <a:solidFill>
                  <a:srgbClr val="e759f4"/>
                </a:solidFill>
                <a:latin typeface="Dyslexie Regular"/>
                <a:ea typeface="Dyslexie Regular"/>
              </a:rPr>
              <a:t>WH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asted-image.tif" descr=""/>
          <p:cNvPicPr/>
          <p:nvPr/>
        </p:nvPicPr>
        <p:blipFill>
          <a:blip r:embed="rId1"/>
          <a:stretch/>
        </p:blipFill>
        <p:spPr>
          <a:xfrm>
            <a:off x="658800" y="542880"/>
            <a:ext cx="8080560" cy="608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24000" y="1811160"/>
            <a:ext cx="8208720" cy="40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ona, Ita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ern Ita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47760" y="324000"/>
            <a:ext cx="664704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0" lang="en-US" sz="3800" spc="-1" strike="noStrike">
                <a:solidFill>
                  <a:srgbClr val="e759f4"/>
                </a:solidFill>
                <a:latin typeface="Dyslexie Regular"/>
                <a:ea typeface="Dyslexie Regular"/>
              </a:rPr>
              <a:t>WHE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asted-image.tif" descr=""/>
          <p:cNvPicPr/>
          <p:nvPr/>
        </p:nvPicPr>
        <p:blipFill>
          <a:blip r:embed="rId1"/>
          <a:stretch/>
        </p:blipFill>
        <p:spPr>
          <a:xfrm>
            <a:off x="4883040" y="1523880"/>
            <a:ext cx="3670560" cy="221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31840" y="771120"/>
            <a:ext cx="8680320" cy="55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In Verona, there are two important familie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THE MONTAGUES and THE CAPULE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They  are riva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Their servants, are rivals, too!  If they meet, they start to figh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So, streets in Verona aren’t calm when Capulets and Montagues meet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People are afraid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The Prince of Verona makes a warning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Next time you make troubles, I will sentence you to death!!!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asted-image.tif" descr=""/>
          <p:cNvPicPr/>
          <p:nvPr/>
        </p:nvPicPr>
        <p:blipFill>
          <a:blip r:embed="rId1"/>
          <a:stretch/>
        </p:blipFill>
        <p:spPr>
          <a:xfrm>
            <a:off x="6060960" y="3828960"/>
            <a:ext cx="2395800" cy="1492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2560" y="69840"/>
            <a:ext cx="85802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r>
              <a:rPr b="0" lang="en-US" sz="3000" spc="-1" strike="noStrike">
                <a:solidFill>
                  <a:srgbClr val="e759f4"/>
                </a:solidFill>
                <a:latin typeface="Dyslexie Regular"/>
                <a:ea typeface="Dyslexie Regular"/>
              </a:rPr>
              <a:t>THE STARTING POINT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31840" y="771480"/>
            <a:ext cx="8680320" cy="57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ROMEO is the son of old Montag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He is a very romantic bo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He is in love with a girl, Rosaline, but she doesn’t love him ba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He is very sad and tells his pain to his cousin, BENVOLIO, and his best friend, MERCUTIO. They invite Romeo to forget Rosalin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Don’t think about her anymore! You’re wasting your time with her!” Good adv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But Romeo is a romantic bo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011320" y="108000"/>
            <a:ext cx="443556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en-US" sz="2800" spc="-1" strike="noStrike">
                <a:solidFill>
                  <a:srgbClr val="e759f4"/>
                </a:solidFill>
                <a:latin typeface="Dyslexie Regular"/>
                <a:ea typeface="Dyslexie Regular"/>
              </a:rPr>
              <a:t>ROMEO, ROME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asted-image.tif" descr=""/>
          <p:cNvPicPr/>
          <p:nvPr/>
        </p:nvPicPr>
        <p:blipFill>
          <a:blip r:embed="rId1"/>
          <a:stretch/>
        </p:blipFill>
        <p:spPr>
          <a:xfrm>
            <a:off x="6591240" y="-22320"/>
            <a:ext cx="2432160" cy="182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90680" y="1876320"/>
            <a:ext cx="816120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Romeo’s companions, MERCUTIO and BENVOLIO,  are smart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They are very intelligent and happy people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They convince ROMEO to go to the Masquerade at the Capulets’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Mercutio and Benvolio say “Hey, there’s a masquerade party at the Capulets’! Let’s go there! We can have fun”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Who cares about the danger of being their enemies, their rivals?… Boys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-84240" y="57240"/>
            <a:ext cx="5605560" cy="14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96720"/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</a:tabLst>
            </a:pPr>
            <a:r>
              <a:rPr b="0" lang="en-US" sz="3100" spc="-1" strike="noStrike">
                <a:solidFill>
                  <a:srgbClr val="e759f4"/>
                </a:solidFill>
                <a:latin typeface="Dyslexie Regular"/>
                <a:ea typeface="Dyslexie Regular"/>
              </a:rPr>
              <a:t>FRIENDS WILL BE FRIENDS…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asted-image.tif" descr=""/>
          <p:cNvPicPr/>
          <p:nvPr/>
        </p:nvPicPr>
        <p:blipFill>
          <a:blip r:embed="rId1"/>
          <a:stretch/>
        </p:blipFill>
        <p:spPr>
          <a:xfrm>
            <a:off x="5448240" y="57240"/>
            <a:ext cx="3503520" cy="198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asted-image.tif" descr=""/>
          <p:cNvPicPr/>
          <p:nvPr/>
        </p:nvPicPr>
        <p:blipFill>
          <a:blip r:embed="rId1"/>
          <a:stretch/>
        </p:blipFill>
        <p:spPr>
          <a:xfrm>
            <a:off x="722160" y="336600"/>
            <a:ext cx="7697880" cy="60548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436760" y="120600"/>
            <a:ext cx="582444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0" spc="-1" strike="noStrike">
                <a:solidFill>
                  <a:srgbClr val="e759f4"/>
                </a:solidFill>
                <a:latin typeface="Dyslexie Regular"/>
                <a:ea typeface="Dyslexie Regular"/>
              </a:rPr>
              <a:t>QUEEN M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3440" y="1979640"/>
            <a:ext cx="3492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100" spc="-1" strike="noStrike">
                <a:solidFill>
                  <a:srgbClr val="795ff4"/>
                </a:solidFill>
                <a:latin typeface="Dyslexie Regular"/>
                <a:ea typeface="Dyslexie Regular"/>
              </a:rPr>
              <a:t>Mercutio tells the story of Queen Mab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816520" y="2589120"/>
            <a:ext cx="2435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100" spc="-1" strike="noStrike">
                <a:solidFill>
                  <a:srgbClr val="c13af4"/>
                </a:solidFill>
                <a:latin typeface="Dyslexie Regular"/>
                <a:ea typeface="Dyslexie Regular"/>
              </a:rPr>
              <a:t>She is a fair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3440" y="4633920"/>
            <a:ext cx="3492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100" spc="-1" strike="noStrike">
                <a:solidFill>
                  <a:srgbClr val="f739bd"/>
                </a:solidFill>
                <a:latin typeface="Dyslexie Regular"/>
                <a:ea typeface="Dyslexie Regular"/>
              </a:rPr>
              <a:t>She has the power to drive men crazy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asted-image.tif" descr=""/>
          <p:cNvPicPr/>
          <p:nvPr/>
        </p:nvPicPr>
        <p:blipFill>
          <a:blip r:embed="rId2"/>
          <a:stretch/>
        </p:blipFill>
        <p:spPr>
          <a:xfrm>
            <a:off x="6161040" y="4665600"/>
            <a:ext cx="2817720" cy="17557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780000" y="3524400"/>
            <a:ext cx="21794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100" spc="-1" strike="noStrike">
                <a:solidFill>
                  <a:srgbClr val="25256f"/>
                </a:solidFill>
                <a:latin typeface="Dyslexie Regular"/>
                <a:ea typeface="Dyslexie Regular"/>
              </a:rPr>
              <a:t>She gets into dream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